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8A84-704A-4E81-B8E3-075A3FE1E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Darwin image: http://en.wikipedia.org/wiki/Charles_Da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er Darwin image: http://en.wikipedia.org/wiki/Portraits_of_Charles_Da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On_the_Origin_of_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source.org/wiki/Page:Origin_of_Species_1859_facsimile.djvu/5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alapagosexpeditions.com/islands/darwin-finche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1EA-BBC8-4158-8459-72D49328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101-4A28-41E1-A89A-15D0A316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9350-B333-461D-9E7C-544E1D37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220-17C9-401C-B8B3-F367746A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DA87-5AEA-4989-95A5-89E04348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3FA-9E62-4F23-8AF9-1FD3C174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4569-99CF-486B-AA10-B554B8F8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07A-4440-4CCE-A6E6-77D6DBB3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5C1-F417-4B0E-A34B-A916C432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0D21-799A-4141-B217-3B288351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89E-EF87-4EC5-B47A-2FBEB0B2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DFDF-5E2A-4B74-A58B-871D7F89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CAB6-54A7-43C0-89CE-B28C8548B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7X33g6eo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he Origin Of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the Theo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di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in response to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of antibiotic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Dar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38560" y="1981080"/>
            <a:ext cx="3410280" cy="4496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54000" y="1981080"/>
            <a:ext cx="2890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” (20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e trai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u7X33g6eo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ighlights the conflict that Darwin must have felt when developing his theory of natural selection (published in 185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59120" y="609480"/>
            <a:ext cx="3424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generation, populations produce more offspring than there are ad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s do not continue to grow in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and many other resources are lim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nferenc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: Individuals within a population compete for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s within all populations v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y variations are herit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Inference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ome individuals will inherit characteristics that give them a better chance of surviving &amp; reproduc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of Natur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ime the popula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beneficial traits become more common, generation after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9920" y="1600200"/>
            <a:ext cx="4554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vival of the Fittes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by Herbert Spencer to describe natural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ness” is ultimately determined by reproductive success, not just sur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ap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haracteristics that make them well suited to thei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415880"/>
            <a:ext cx="7772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12:55:13Z</dcterms:created>
  <dc:creator>rubina khan</dc:creator>
  <dc:description/>
  <dc:language>en-US</dc:language>
  <cp:lastModifiedBy>rubina khan</cp:lastModifiedBy>
  <dcterms:modified xsi:type="dcterms:W3CDTF">2015-05-26T14:37:30Z</dcterms:modified>
  <cp:revision>47</cp:revision>
  <dc:subject/>
  <dc:title>Evidence for Evolution</dc:title>
</cp:coreProperties>
</file>